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D2EF-2F4F-4DE7-84A9-9EAFD114B444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13B-1B98-4E1D-B91C-5A141F743862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B0D-02D8-4397-AFD8-18088E0C80E4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DC0-8A42-483B-B521-9D34D8B96C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8A10-982E-4D0B-9D7C-92FD6F4A7C34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91E-2901-4FD5-860D-AB48653A749A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5F37-8466-4EF4-97E9-8732D523ECEB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883-9BE2-4877-92C5-1B425A5A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8DC-938B-41CF-9FC1-C97B3F2D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30B-F218-4D65-AB8A-D263E463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060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864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060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864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101-B249-46B7-87A8-B7D0BD9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7DD1-4E73-4FA8-94F3-DA2A958E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F3AA-F59C-4617-B41C-E7471EA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9F72-9097-40A2-8375-B4E8459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F64-A82E-4A74-9A16-FD4393E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F188-7F7E-4CCA-A261-A34A762E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66E-05D8-4A8F-80A2-0E1B51C0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5AED-4FEE-4EC0-AB6F-C39EE74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365-5FC1-4423-B353-463BDEC6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1B85-DDC1-4A6C-B61B-E978237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A8E-3CF7-4F9F-82EA-5470916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2AA1-C7D2-43F7-BA61-206600D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EDFB-AD21-4648-AF06-32C4D875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060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864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060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864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6C4D-2744-40AC-9DF3-CD5C238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FA1-51DD-4366-A93D-D31CEC3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F92-4C3A-44C6-9CC4-B9E1C408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703-84A3-4548-970F-680D339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A24-2746-4A8A-98BA-06C6D78D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32A-0BB6-4986-BFC8-6696F2E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093-E435-47F9-9AA0-0F6F63F8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325-CE8F-4965-A626-9D7CA91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7C7-DBEE-4293-B62F-2097D2A9A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598-22DF-450F-BBB3-EA271CDF9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Massa m ja paino 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474920" cy="1628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08720" y="2421000"/>
            <a:ext cx="571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C:\WINDOWS\Desktop\scales 7.gif"/>
          <p:cNvPicPr/>
          <p:nvPr/>
        </p:nvPicPr>
        <p:blipFill>
          <a:blip r:embed="rId2"/>
          <a:stretch/>
        </p:blipFill>
        <p:spPr>
          <a:xfrm>
            <a:off x="179280" y="3141720"/>
            <a:ext cx="20574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WINDOWS\Desktop\scale 36.gif"/>
          <p:cNvPicPr/>
          <p:nvPr/>
        </p:nvPicPr>
        <p:blipFill>
          <a:blip r:embed="rId3"/>
          <a:stretch/>
        </p:blipFill>
        <p:spPr>
          <a:xfrm>
            <a:off x="7093080" y="3716280"/>
            <a:ext cx="135864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uorakulmio 3"/>
          <p:cNvSpPr/>
          <p:nvPr/>
        </p:nvSpPr>
        <p:spPr>
          <a:xfrm>
            <a:off x="530640" y="428760"/>
            <a:ext cx="85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assan saa mitattua punnitsemalla vaa’a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kstikehys 4"/>
          <p:cNvSpPr/>
          <p:nvPr/>
        </p:nvSpPr>
        <p:spPr>
          <a:xfrm>
            <a:off x="2326680" y="128592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Perusyksikkö on kilogram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uorakulmio 13"/>
          <p:cNvSpPr/>
          <p:nvPr/>
        </p:nvSpPr>
        <p:spPr>
          <a:xfrm>
            <a:off x="2576160" y="220500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a ei riipu sijainni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1628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6"/>
          <p:cNvSpPr/>
          <p:nvPr/>
        </p:nvSpPr>
        <p:spPr>
          <a:xfrm>
            <a:off x="304920" y="7632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7cfb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e7cfb5"/>
                </a:solidFill>
                <a:latin typeface="Arial"/>
              </a:rPr>
              <a:t>Mas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8"/>
          <p:cNvSpPr/>
          <p:nvPr/>
        </p:nvSpPr>
        <p:spPr>
          <a:xfrm>
            <a:off x="380880" y="990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a on aineen perusominaisu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2"/>
          <p:cNvSpPr/>
          <p:nvPr/>
        </p:nvSpPr>
        <p:spPr>
          <a:xfrm>
            <a:off x="4038480" y="32767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3"/>
          <p:cNvSpPr/>
          <p:nvPr/>
        </p:nvSpPr>
        <p:spPr>
          <a:xfrm>
            <a:off x="1981080" y="3276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ikehys 12"/>
          <p:cNvSpPr/>
          <p:nvPr/>
        </p:nvSpPr>
        <p:spPr>
          <a:xfrm>
            <a:off x="467280" y="4214880"/>
            <a:ext cx="79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Ainetta on yhtä paljon, oletpa Maassa tai Kuus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ai vaikkapa Jupiteriss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kstikehys 13"/>
          <p:cNvSpPr/>
          <p:nvPr/>
        </p:nvSpPr>
        <p:spPr>
          <a:xfrm>
            <a:off x="635400" y="27082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Massan tunnus on m ja yksikkö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3643200" y="2928960"/>
            <a:ext cx="1295640" cy="395280"/>
          </a:xfrm>
          <a:prstGeom prst="leftArrow">
            <a:avLst>
              <a:gd name="adj1" fmla="val 50000"/>
              <a:gd name="adj2" fmla="val 97241"/>
            </a:avLst>
          </a:prstGeom>
          <a:solidFill>
            <a:srgbClr val="e232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uorakulmio 5"/>
          <p:cNvSpPr/>
          <p:nvPr/>
        </p:nvSpPr>
        <p:spPr>
          <a:xfrm>
            <a:off x="3857760" y="714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cfb5"/>
                </a:solidFill>
                <a:latin typeface="Arial"/>
              </a:rPr>
              <a:t>Paino Maassa on voima, jolla Maa vetää kappalett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571760" y="2286000"/>
            <a:ext cx="1823760" cy="1695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256536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21760" y="4581360"/>
            <a:ext cx="53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Kuussa on voima , jolla Kuu vetää kappalet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924520" cy="414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7280" y="836640"/>
            <a:ext cx="1065240" cy="86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1268280"/>
            <a:ext cx="106524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16360" y="1628640"/>
            <a:ext cx="287280" cy="1150920"/>
          </a:xfrm>
          <a:prstGeom prst="downArrow">
            <a:avLst>
              <a:gd name="adj1" fmla="val 50000"/>
              <a:gd name="adj2" fmla="val 100157"/>
            </a:avLst>
          </a:prstGeom>
          <a:solidFill>
            <a:srgbClr val="ffaa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198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ffaa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5480" y="5608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assa on sama Kuussa ja Maas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1200" y="21528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G = 6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44520" y="22240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G = 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400" y="58975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Maassa on kuusinkertainen, koska Maan vetovoima on kuusi kertaa suurem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uin Kuun vetovo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orakulmio 1"/>
          <p:cNvSpPr/>
          <p:nvPr/>
        </p:nvSpPr>
        <p:spPr>
          <a:xfrm>
            <a:off x="642960" y="1357200"/>
            <a:ext cx="8501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3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n vetovoiman vaikutus kappalee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uorakulmio 2"/>
          <p:cNvSpPr/>
          <p:nvPr/>
        </p:nvSpPr>
        <p:spPr>
          <a:xfrm>
            <a:off x="964080" y="2714760"/>
            <a:ext cx="61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o= mass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utoamiskiihtyvy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uorakulmio 4"/>
          <p:cNvSpPr/>
          <p:nvPr/>
        </p:nvSpPr>
        <p:spPr>
          <a:xfrm>
            <a:off x="1085400" y="328608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G = m (kg)∙ 10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kstikehys 5"/>
          <p:cNvSpPr/>
          <p:nvPr/>
        </p:nvSpPr>
        <p:spPr>
          <a:xfrm>
            <a:off x="3726720" y="1000080"/>
            <a:ext cx="201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Arial"/>
              </a:rPr>
              <a:t>Paino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kstikehys 6"/>
          <p:cNvSpPr/>
          <p:nvPr/>
        </p:nvSpPr>
        <p:spPr>
          <a:xfrm>
            <a:off x="1302840" y="45720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aske oma painosi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571680" cy="2019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800" y="51768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mitataan jousivaa’a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kstikehys 2"/>
          <p:cNvSpPr/>
          <p:nvPr/>
        </p:nvSpPr>
        <p:spPr>
          <a:xfrm>
            <a:off x="2237040" y="500076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laneetat ovat erikoko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kstikehys 3"/>
          <p:cNvSpPr/>
          <p:nvPr/>
        </p:nvSpPr>
        <p:spPr>
          <a:xfrm>
            <a:off x="2277360" y="55166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Siksi niillä on erilainen vetovo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769080" cy="4178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00720" y="4507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Linense BY-NC-SA /</a:t>
            </a: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Nyi Lynn Seck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6:56:41Z</dcterms:created>
  <dc:creator>Ritva Tamminen</dc:creator>
  <dc:description/>
  <dc:language>en-US</dc:language>
  <cp:lastModifiedBy>tammiri</cp:lastModifiedBy>
  <dcterms:modified xsi:type="dcterms:W3CDTF">2010-10-24T14:53:43Z</dcterms:modified>
  <cp:revision>21</cp:revision>
  <dc:subject/>
  <dc:title>Massa ja paino</dc:title>
</cp:coreProperties>
</file>